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8CB-239A-4CF3-8F78-AA220C46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6DF2-523D-4928-8541-AFE39F31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7C50-E1EB-40D9-873C-0938BC7E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D332-01E2-4955-AA9B-241CDFB6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A6B5-ABF6-4ECC-9557-5879CDD4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F9E4-46BF-4831-9DB7-F63FD685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EAA4-7D14-4C12-B852-CE119EEF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3EDD-5C49-4573-B08B-CABBCCAA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3998-7BC6-4C66-B4E6-889DAA82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2E54-C1EC-41CD-885F-B47040E0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23BA-9316-424D-B4D5-15FF2F3F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9CD0-1A9A-4476-ACE5-590759A2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7F87-809E-408D-B991-E3102C93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3286-B6F3-4E48-A4F6-51812AB6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2565-D057-4709-9E81-0F20E4FB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E917-1E5D-463D-B68D-A1584699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D99A-FD2C-4B0A-A681-CB764359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76534-490F-40E6-A22D-5E1A303A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9319B-3589-4A73-82D3-C0BC414E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84F27-21C5-49CE-B5D4-F5636DC1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DB2B6-90DA-4B2B-AAD9-DFC893B7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6D6EA-D58D-4EFF-8A2E-5948667D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A905-14D9-44EC-B8CA-41B0C435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CDB69-BA75-4001-8F5C-AC40D93F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AFA73-6D96-4923-BBB4-A9EE9543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7C795-BE96-4F54-AA4A-20B82386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6465E-F29E-4156-92CD-4AC3769C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B72BB-DC45-434C-9146-9A1D3846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C6A1B-7EB6-48A1-90E5-D296AE93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C35A3-9F29-4F66-89AB-D24849FD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0C4AB-5D81-4FF9-878A-589FFD36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4B575-73E0-4ED2-9E31-60EC8A9B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E0F05-43D0-4463-BE87-A729583F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9ADD-ED65-4900-8747-7D36370D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5EB43-9408-46BC-ABBF-FA2D33B4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388E0-5685-413F-B3CB-77BAD819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CA539-267F-4F15-B1A5-4EA2C3E7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E14E4-877D-4202-83B0-A8880D2E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E1C4A-3B74-4878-AC68-142BAEE3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75EF7-1E68-4E56-84B2-C6729AE1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4FA77-8787-4669-ACDA-B4BC1E0F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D3378-2184-4F69-BADE-B86A332B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88BBD-D962-4E69-AF20-5A93C1D4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5271-BE3D-442D-B43C-D1D4E297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5569-18F3-4AF9-9231-45C73BBB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75C7-F1A7-4320-B89A-53AB0216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E189-492E-4A76-8CA3-3A5C87C7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979-B54E-4911-9FDA-7A94C837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443F-0E32-4631-8F19-EC412E782B4C}" type="slidenum">
              <a:rPr b="0" lang="fr-BE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DE2A-26F4-4926-AFAF-D4E6FA6DDEA9}" type="slidenum">
              <a:rPr b="0" lang="fr-BE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2310-B3B0-4334-A0C3-8835340CB2D7}" type="slidenum">
              <a:rPr b="0" lang="fr-BE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e lib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e lib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11E9-2693-40EF-9C20-F8327E59C078}" type="slidenum">
              <a:rPr b="0" lang="fr-BE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r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nstantia"/>
              </a:rPr>
              <a:t>Obligations et Droi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500" spc="-1" strike="noStrike">
                <a:solidFill>
                  <a:srgbClr val="04617b"/>
                </a:solidFill>
                <a:latin typeface="Calibri"/>
              </a:rPr>
              <a:t>Cas de l’acte de commerce mixt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Art 4 CC « </a:t>
            </a:r>
            <a:r>
              <a:rPr b="1" i="1" lang="fr-FR" sz="2600" spc="-1" strike="noStrike">
                <a:solidFill>
                  <a:srgbClr val="000000"/>
                </a:solidFill>
                <a:latin typeface="Constantia"/>
              </a:rPr>
              <a:t>Lorsque l’acte est commercial pr un contractant et civil pour l’autre les règles du dt commercial s’appliquent à la partie pour qui l’acte est commercial; elles ne peuvent être opposées à la partie pour qui l’acte est civil, sauf disposition spéciale contraire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Inopposabilité d’une Compta régulièrement tenue dans une action contre un non commerça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Preuve compt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obité des documents conformes au double entre les mains de la partie adverse (commerçant ou non commerçan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Constitutifs de pleine preuve dans le litige (art 21 CC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Double flèche verticale 3"/>
          <p:cNvSpPr/>
          <p:nvPr/>
        </p:nvSpPr>
        <p:spPr>
          <a:xfrm>
            <a:off x="4427640" y="3213000"/>
            <a:ext cx="484200" cy="9334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Pouvoir du Ju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onstantia"/>
              </a:rPr>
              <a:t>2 situations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     commerçant apporte la preuve de son propre gr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partie adverse requiert la production de preu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Juge ordonne d’off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Juge ordonne sur requê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Chevron 3"/>
          <p:cNvSpPr/>
          <p:nvPr/>
        </p:nvSpPr>
        <p:spPr>
          <a:xfrm>
            <a:off x="2124000" y="1916280"/>
            <a:ext cx="360360" cy="484200"/>
          </a:xfrm>
          <a:custGeom>
            <a:avLst/>
            <a:gdLst>
              <a:gd name="textAreaLeft" fmla="*/ 0 w 360360"/>
              <a:gd name="textAreaRight" fmla="*/ 360720 w 3603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hevron 4"/>
          <p:cNvSpPr/>
          <p:nvPr/>
        </p:nvSpPr>
        <p:spPr>
          <a:xfrm>
            <a:off x="1908000" y="2565360"/>
            <a:ext cx="360360" cy="484200"/>
          </a:xfrm>
          <a:custGeom>
            <a:avLst/>
            <a:gdLst>
              <a:gd name="textAreaLeft" fmla="*/ 0 w 360360"/>
              <a:gd name="textAreaRight" fmla="*/ 360720 w 3603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lèche vers le bas 5"/>
          <p:cNvSpPr/>
          <p:nvPr/>
        </p:nvSpPr>
        <p:spPr>
          <a:xfrm>
            <a:off x="4071960" y="3429000"/>
            <a:ext cx="785880" cy="785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Pouvoir du Ju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 u="sng">
                <a:solidFill>
                  <a:srgbClr val="000000"/>
                </a:solidFill>
                <a:uFillTx/>
                <a:latin typeface="Constantia"/>
              </a:rPr>
              <a:t>2 attributions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en matière de preuve compt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Communication                Représen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a Communication = la production intégrale des documents comptables. Elle ne peut être ordonnée qu’exceptionnellement (dans les affaires de succession, de partage, de redressement ou de liquidation judicaire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Double flèche horizontale 3"/>
          <p:cNvSpPr/>
          <p:nvPr/>
        </p:nvSpPr>
        <p:spPr>
          <a:xfrm>
            <a:off x="4284720" y="2492280"/>
            <a:ext cx="792000" cy="484200"/>
          </a:xfrm>
          <a:prstGeom prst="leftRightArrow">
            <a:avLst>
              <a:gd name="adj1" fmla="val 50000"/>
              <a:gd name="adj2" fmla="val 4999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Pouvoir du Ju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a Représentation = extraire de la comptabilité les seules écritures intéressant l’affaire soumise au jug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Si refus du commerçant (art 25 CC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Déférer serment à l’autre parti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Double flèche verticale 3"/>
          <p:cNvSpPr/>
          <p:nvPr/>
        </p:nvSpPr>
        <p:spPr>
          <a:xfrm>
            <a:off x="4143240" y="2786040"/>
            <a:ext cx="484200" cy="642960"/>
          </a:xfrm>
          <a:prstGeom prst="upDownArrow">
            <a:avLst>
              <a:gd name="adj1" fmla="val 50000"/>
              <a:gd name="adj2" fmla="val 4999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lèche vers le bas 4"/>
          <p:cNvSpPr/>
          <p:nvPr/>
        </p:nvSpPr>
        <p:spPr>
          <a:xfrm>
            <a:off x="4140360" y="3789360"/>
            <a:ext cx="484200" cy="57636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San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Elément constitutif de la violation = l’irrégularit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Tenue de comptabilité fictive ou incomplè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Faire disparaitre des documents comptables de  l’entrepri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Détourner ou dissimuler une partie de l’actif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Augmenter frauduleusement son passi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Double flèche verticale 3"/>
          <p:cNvSpPr/>
          <p:nvPr/>
        </p:nvSpPr>
        <p:spPr>
          <a:xfrm>
            <a:off x="4172040" y="2411280"/>
            <a:ext cx="484200" cy="928800"/>
          </a:xfrm>
          <a:prstGeom prst="upDownArrow">
            <a:avLst>
              <a:gd name="adj1" fmla="val 50000"/>
              <a:gd name="adj2" fmla="val 5000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Sanctions péna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Irrégularités comptables ouvrent la voie à des sanctions gra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Déclaration en état de redressement judiciaire, ou de déchéance pendant 5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Banqueroute avec des peines allant d’un à cinq ans et 10000dhs à 100000dhs d’amende c/ dirigeants sociau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Demi-tour 4"/>
          <p:cNvSpPr/>
          <p:nvPr/>
        </p:nvSpPr>
        <p:spPr>
          <a:xfrm rot="10800000">
            <a:off x="6357600" y="2356920"/>
            <a:ext cx="887400" cy="878040"/>
          </a:xfrm>
          <a:custGeom>
            <a:avLst/>
            <a:gdLst/>
            <a:ahLst/>
            <a:rect l="l" t="t" r="r" b="b"/>
            <a:pathLst>
              <a:path w="887412" h="877887">
                <a:moveTo>
                  <a:pt x="0" y="877887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3601" y="0"/>
                </a:lnTo>
                <a:lnTo>
                  <a:pt x="393601" y="0"/>
                </a:lnTo>
                <a:arcTo wR="384076" hR="384076" stAng="-5400000" swAng="5400009"/>
                <a:lnTo>
                  <a:pt x="777676" y="438944"/>
                </a:lnTo>
                <a:lnTo>
                  <a:pt x="887412" y="438944"/>
                </a:lnTo>
                <a:lnTo>
                  <a:pt x="667940" y="658415"/>
                </a:lnTo>
                <a:lnTo>
                  <a:pt x="448469" y="438944"/>
                </a:lnTo>
                <a:lnTo>
                  <a:pt x="558204" y="438944"/>
                </a:lnTo>
                <a:lnTo>
                  <a:pt x="558204" y="384076"/>
                </a:lnTo>
                <a:lnTo>
                  <a:pt x="558204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7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Sanctions fisca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Comptabilité = base des déclarations fisc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En cas d’irrégularité = contrôle fiscal par vérification documentaire / sur pla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 u="sng">
                <a:solidFill>
                  <a:srgbClr val="000000"/>
                </a:solidFill>
                <a:uFillTx/>
                <a:latin typeface="Constantia"/>
              </a:rPr>
              <a:t>Base légale: art 23 loi n° 9-88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e fisc peut rejeter les documents et recouri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Imposition forfaitaire             S pécuniai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énalités de retar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Double flèche horizontale 3"/>
          <p:cNvSpPr/>
          <p:nvPr/>
        </p:nvSpPr>
        <p:spPr>
          <a:xfrm>
            <a:off x="3995640" y="4292640"/>
            <a:ext cx="792360" cy="642960"/>
          </a:xfrm>
          <a:prstGeom prst="leftRightArrow">
            <a:avLst>
              <a:gd name="adj1" fmla="val 50000"/>
              <a:gd name="adj2" fmla="val 5001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fr-FR" sz="4500" spc="-1" strike="noStrike">
                <a:solidFill>
                  <a:srgbClr val="04617b"/>
                </a:solidFill>
                <a:latin typeface="Calibri"/>
              </a:rPr>
              <a:t>Publicité au registre de commerce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C’est une publicité statutaire au RC par voie Immatriculation; inscription modificative; radi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Immatriculation = action d’inscription d’une personne/chose sur un registre par numéro d’identification. Complété par des mentions faisant état de ses caractéristiq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But: Organiser une publicité; attribuer stat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Terminologi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 u="sng">
                <a:solidFill>
                  <a:srgbClr val="000000"/>
                </a:solidFill>
                <a:uFillTx/>
                <a:latin typeface="Constantia"/>
              </a:rPr>
              <a:t>Dénomination sociale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: appellation de la société déterminée dans les statu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 u="sng">
                <a:solidFill>
                  <a:srgbClr val="000000"/>
                </a:solidFill>
                <a:uFillTx/>
                <a:latin typeface="Constantia"/>
              </a:rPr>
              <a:t>Nom commercial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: dénomination sous laquelle une personne physique/morale exploite son fonds de commerce et, dont il constitue un élé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 u="sng">
                <a:solidFill>
                  <a:srgbClr val="000000"/>
                </a:solidFill>
                <a:uFillTx/>
                <a:latin typeface="Constantia"/>
              </a:rPr>
              <a:t>Enseigne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: signe apposé sur un établissement commercial le distinguant des autres établisse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Obligations du commerça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O comptables et de conservation documentai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O de publicité au registre de commer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ouble flèche verticale 3"/>
          <p:cNvSpPr/>
          <p:nvPr/>
        </p:nvSpPr>
        <p:spPr>
          <a:xfrm>
            <a:off x="4356000" y="2852640"/>
            <a:ext cx="484200" cy="863640"/>
          </a:xfrm>
          <a:prstGeom prst="upDownArrow">
            <a:avLst>
              <a:gd name="adj1" fmla="val 50000"/>
              <a:gd name="adj2" fmla="val 499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Registre du commer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Constantia"/>
              </a:rPr>
              <a:t>Art 28-35 CC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es inscriptions au RC sont requises au Secrétariat Greffe du tribunal du lieu de situation de l’établissement principal du commerçant ou du siège de la sociét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ossibilité de se faire délivrer un extrait certifié ou un certificat attestant de la fiche identitaire + inscriptions grevant le commer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Registre centr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Tenu par l’OMP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Centraliser, pour l’ensemble du royaume, les renseignements mentionnés aux divers registres locau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Communiquer par des certifica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Flèche vers le bas 3"/>
          <p:cNvSpPr/>
          <p:nvPr/>
        </p:nvSpPr>
        <p:spPr>
          <a:xfrm>
            <a:off x="4500720" y="2357280"/>
            <a:ext cx="484200" cy="69228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us 4"/>
          <p:cNvSpPr/>
          <p:nvPr/>
        </p:nvSpPr>
        <p:spPr>
          <a:xfrm>
            <a:off x="4286160" y="3786120"/>
            <a:ext cx="914400" cy="914400"/>
          </a:xfrm>
          <a:custGeom>
            <a:avLst/>
            <a:gdLst>
              <a:gd name="textAreaLeft" fmla="*/ 120960 w 914400"/>
              <a:gd name="textAreaRight" fmla="*/ 793440 w 914400"/>
              <a:gd name="textAreaTop" fmla="*/ 349560 h 914400"/>
              <a:gd name="textAreaBottom" fmla="*/ 564840 h 914400"/>
            </a:gdLst>
            <a:ahLst/>
            <a:rect l="textAreaLeft" t="textAreaTop" r="textAreaRight" b="textAreaBottom"/>
            <a:pathLst>
              <a:path w="914400" h="914400">
                <a:moveTo>
                  <a:pt x="121204" y="349667"/>
                </a:moveTo>
                <a:lnTo>
                  <a:pt x="349667" y="349667"/>
                </a:lnTo>
                <a:lnTo>
                  <a:pt x="349667" y="121204"/>
                </a:lnTo>
                <a:lnTo>
                  <a:pt x="564733" y="121204"/>
                </a:lnTo>
                <a:lnTo>
                  <a:pt x="564733" y="349667"/>
                </a:lnTo>
                <a:lnTo>
                  <a:pt x="793196" y="349667"/>
                </a:lnTo>
                <a:lnTo>
                  <a:pt x="793196" y="564733"/>
                </a:lnTo>
                <a:lnTo>
                  <a:pt x="564733" y="564733"/>
                </a:lnTo>
                <a:lnTo>
                  <a:pt x="564733" y="793196"/>
                </a:lnTo>
                <a:lnTo>
                  <a:pt x="349667" y="793196"/>
                </a:lnTo>
                <a:lnTo>
                  <a:pt x="349667" y="564733"/>
                </a:lnTo>
                <a:lnTo>
                  <a:pt x="121204" y="564733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Registre loc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Surveillé par le Président du Tribunal (ou un juge désigné par lu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Tenu par le SG du tribunal compéte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Modèle d’extrait certifié du RC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Flèche vers le bas 3"/>
          <p:cNvSpPr/>
          <p:nvPr/>
        </p:nvSpPr>
        <p:spPr>
          <a:xfrm>
            <a:off x="4357800" y="2500200"/>
            <a:ext cx="484200" cy="62100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lèche vers le bas 4"/>
          <p:cNvSpPr/>
          <p:nvPr/>
        </p:nvSpPr>
        <p:spPr>
          <a:xfrm>
            <a:off x="4357800" y="3786120"/>
            <a:ext cx="484200" cy="5493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fr-FR" sz="4500" spc="-1" strike="noStrike">
                <a:solidFill>
                  <a:srgbClr val="04617b"/>
                </a:solidFill>
                <a:latin typeface="Calibri"/>
              </a:rPr>
              <a:t>Personnes assujetties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Art 37 C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Toute personne physique et morale (sociétés commerciales, GIE), de droit privé ou de droit public, marocaine ou étrangère exerçant une activité commerciale sur le territoire maroca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’ouverture d’une succursale ou d’une agenc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d’entreprise marocaine ou étrangè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us 3"/>
          <p:cNvSpPr/>
          <p:nvPr/>
        </p:nvSpPr>
        <p:spPr>
          <a:xfrm>
            <a:off x="4214880" y="4071960"/>
            <a:ext cx="914400" cy="642960"/>
          </a:xfrm>
          <a:custGeom>
            <a:avLst/>
            <a:gdLst>
              <a:gd name="textAreaLeft" fmla="*/ 120960 w 914400"/>
              <a:gd name="textAreaRight" fmla="*/ 793440 w 914400"/>
              <a:gd name="textAreaTop" fmla="*/ 245880 h 642960"/>
              <a:gd name="textAreaBottom" fmla="*/ 397080 h 642960"/>
            </a:gdLst>
            <a:ahLst/>
            <a:rect l="textAreaLeft" t="textAreaTop" r="textAreaRight" b="textAreaBottom"/>
            <a:pathLst>
              <a:path w="914400" h="642937">
                <a:moveTo>
                  <a:pt x="121204" y="245859"/>
                </a:moveTo>
                <a:lnTo>
                  <a:pt x="381591" y="245859"/>
                </a:lnTo>
                <a:lnTo>
                  <a:pt x="381591" y="85221"/>
                </a:lnTo>
                <a:lnTo>
                  <a:pt x="532809" y="85221"/>
                </a:lnTo>
                <a:lnTo>
                  <a:pt x="532809" y="245859"/>
                </a:lnTo>
                <a:lnTo>
                  <a:pt x="793196" y="245859"/>
                </a:lnTo>
                <a:lnTo>
                  <a:pt x="793196" y="397078"/>
                </a:lnTo>
                <a:lnTo>
                  <a:pt x="532809" y="397078"/>
                </a:lnTo>
                <a:lnTo>
                  <a:pt x="532809" y="557716"/>
                </a:lnTo>
                <a:lnTo>
                  <a:pt x="381591" y="557716"/>
                </a:lnTo>
                <a:lnTo>
                  <a:pt x="381591" y="397078"/>
                </a:lnTo>
                <a:lnTo>
                  <a:pt x="121204" y="397078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Terminologi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Succursale = Etablissement commercial créée par entreprise ou société, jouissant d’autonomie par rapport à la société créatrice sans en être juridiquement distin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GIE = Groupement de pers. Physiques ou morales ayant la personnalité juridique dont l’objet est de faciliter l’exercice de l’activité économique des membres (comptoirs de vte, laboratoire de recherch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fr-FR" sz="4500" spc="-1" strike="noStrike">
                <a:solidFill>
                  <a:srgbClr val="04617b"/>
                </a:solidFill>
                <a:latin typeface="Calibri"/>
              </a:rPr>
              <a:t>Différentes inscriptions</a:t>
            </a:r>
            <a:br>
              <a:rPr sz="4500"/>
            </a:br>
            <a:r>
              <a:rPr b="1" lang="fr-FR" sz="4500" spc="-1" strike="noStrike">
                <a:solidFill>
                  <a:srgbClr val="04617b"/>
                </a:solidFill>
                <a:latin typeface="Calibri"/>
              </a:rPr>
              <a:t>Immatriculation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Constantia"/>
              </a:rPr>
              <a:t>Immatriculation (3 types d’actes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A un caractère personn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Immatriculation principa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Inscription complémentai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Immatriculation secondai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Flèche vers le bas 3"/>
          <p:cNvSpPr/>
          <p:nvPr/>
        </p:nvSpPr>
        <p:spPr>
          <a:xfrm>
            <a:off x="4357800" y="2857680"/>
            <a:ext cx="484200" cy="477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Inscription complémentai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Art 40 C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En cas d’ouverture d’un nouvel établissement se trouvant dans le ressort du tribunal où la personne assujettie a son immatriculation principale, il y a lieu seulement à  inscription complémentai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Flèche vers le bas 3"/>
          <p:cNvSpPr/>
          <p:nvPr/>
        </p:nvSpPr>
        <p:spPr>
          <a:xfrm>
            <a:off x="4357800" y="2643120"/>
            <a:ext cx="484200" cy="69228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Immatriculation secondai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Si le nouvel établissement se situe dans le ressort d’un autre tribunal que celui de l’immatriculation principa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IS  au tribunal du lieu de la succursale ou de l’agence ou de la création de la nouvelle activité, avec indication de l’immatriculation principa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une inscription modificative doit également être portée au R.C. de l’immatriculation principa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Inscription modificati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Art 50 C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Tout changement  ou  modification concernant les mentions qui figurent sur le R.C. doit faire l’objet d’une demande d’inscription modificative dans le mois suivant le chang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Flèche vers le bas 3"/>
          <p:cNvSpPr/>
          <p:nvPr/>
        </p:nvSpPr>
        <p:spPr>
          <a:xfrm>
            <a:off x="4429080" y="2428920"/>
            <a:ext cx="484200" cy="477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Radi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Situation: cessation d’activité commercia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Constantia"/>
              </a:rPr>
              <a:t>Effet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: Faire rayer l’immatriculation du commerçant du R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Constantia"/>
              </a:rPr>
              <a:t>Procédé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: à la demande des intéressés / d’office sur ordonnance du ju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Constantia"/>
              </a:rPr>
              <a:t>Cas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: cessation totale de l’activité commerciale, décès du commerçant sans qu’il y ait cession du FDC, dissolution d’une sociét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Double flèche verticale 3"/>
          <p:cNvSpPr/>
          <p:nvPr/>
        </p:nvSpPr>
        <p:spPr>
          <a:xfrm>
            <a:off x="4357800" y="2428920"/>
            <a:ext cx="484200" cy="571320"/>
          </a:xfrm>
          <a:prstGeom prst="upDownArrow">
            <a:avLst>
              <a:gd name="adj1" fmla="val 50000"/>
              <a:gd name="adj2" fmla="val 4998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fr-FR" sz="4500" spc="-1" strike="noStrike">
                <a:solidFill>
                  <a:srgbClr val="04617b"/>
                </a:solidFill>
                <a:latin typeface="Calibri"/>
              </a:rPr>
              <a:t>O comptables et de conservation documentaire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91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Fond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Art. 18-30 loi n° 15-95 (code de commerc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oi n° 9-88 (25.12.92) relative aux obligations comptables du commerça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Double flèche verticale 3"/>
          <p:cNvSpPr/>
          <p:nvPr/>
        </p:nvSpPr>
        <p:spPr>
          <a:xfrm>
            <a:off x="4427640" y="2421000"/>
            <a:ext cx="484200" cy="936720"/>
          </a:xfrm>
          <a:prstGeom prst="upDownArrow">
            <a:avLst>
              <a:gd name="adj1" fmla="val 50000"/>
              <a:gd name="adj2" fmla="val 5003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Eff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ésomption d’avoir qualité de commerçant avec conséquences en découla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Cas de cession FDC : responsabilité solidaire des dettes du successeur tant que le vendeur ne s’est pas fait radier du RC ou n’a pas procédé à une inscription modificati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Inopposabilité aux tiers des faits/ actes non inscrits au RC (art 60 RC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Effe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ers physiques immatriculées: présomption simple de commercialit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Avant la loi n° 15-95, la jurisprudence avait décidé que «la seule inscription au R.C ne suffit pas pour donner à la personne inscrite la qualité de commerçant 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ers morales: l’immatriculation est une condition de fond pr l’acquisition de la personnalité juridi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fr-FR" sz="4500" spc="-1" strike="noStrike">
                <a:solidFill>
                  <a:srgbClr val="04617b"/>
                </a:solidFill>
                <a:latin typeface="Calibri"/>
              </a:rPr>
              <a:t>Sanctions pour défaut d’immatriculation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vation des avantages découlant de la qualité de commerçant (prescription quinquennale ou de durée plus courte dans certains cas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Mais soumission aux obligations des commerçants (ex. soumission au redressement et à la liquidation judiciair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04617b"/>
                </a:solidFill>
                <a:latin typeface="Calibri"/>
              </a:rPr>
              <a:t>Sanctions pour défaut d’immatricula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Une amende de  1.000dhs à 5.000dhs pr les faits art 62, 64, 65 C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Ex. art 65 = s’ils ne mentionnent pas sur les papiers commerciaux le numéro et le lieu d’immatriculation de commer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Double flèche verticale 3"/>
          <p:cNvSpPr/>
          <p:nvPr/>
        </p:nvSpPr>
        <p:spPr>
          <a:xfrm>
            <a:off x="4429080" y="3000240"/>
            <a:ext cx="484200" cy="571680"/>
          </a:xfrm>
          <a:prstGeom prst="upDownArrow">
            <a:avLst>
              <a:gd name="adj1" fmla="val 0"/>
              <a:gd name="adj2" fmla="val 5001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04617b"/>
                </a:solidFill>
                <a:latin typeface="Calibri"/>
              </a:rPr>
              <a:t>Sanctions pour défaut d’immatricula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Même amende + peine d’emprisonnement d’un mois à un a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’indication inexacte en vue de l’immatriculation ou de l’inscription au registre du commerce donnée de mauvaise fo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indications fausses insérées dans les papiers de commerce de mauvaise fo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eines doublées en cas de récidive dans les 5 ans suivant le prononcé de la 1</a:t>
            </a:r>
            <a:r>
              <a:rPr b="0" lang="fr-FR" sz="2600" spc="-1" strike="noStrike" baseline="30000">
                <a:solidFill>
                  <a:srgbClr val="000000"/>
                </a:solidFill>
                <a:latin typeface="Constantia"/>
              </a:rPr>
              <a:t>ère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condamn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500" spc="-1" strike="noStrike">
                <a:solidFill>
                  <a:srgbClr val="04617b"/>
                </a:solidFill>
                <a:latin typeface="Calibri"/>
              </a:rPr>
              <a:t>Avantages de la qualité de commerçan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nstantia"/>
              </a:rPr>
              <a:t>La protection de la propriété commercial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nstantia"/>
              </a:rPr>
              <a:t>La faculté de soustraction aux règles de compétence (clause compromissoire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nstantia"/>
              </a:rPr>
              <a:t>La soumission au traitement judiciaire des entreprises en difficulté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nstantia"/>
              </a:rPr>
              <a:t>La production des documents comptables comme preuve dans les litig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500" spc="-1" strike="noStrike">
                <a:solidFill>
                  <a:srgbClr val="04617b"/>
                </a:solidFill>
                <a:latin typeface="Calibri"/>
              </a:rPr>
              <a:t>O comptables et de conservation documentai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O comptabl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Preuv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Prescrip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Flèche vers le bas 3"/>
          <p:cNvSpPr/>
          <p:nvPr/>
        </p:nvSpPr>
        <p:spPr>
          <a:xfrm>
            <a:off x="4500720" y="2924280"/>
            <a:ext cx="484200" cy="50472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lèche vers le bas 4"/>
          <p:cNvSpPr/>
          <p:nvPr/>
        </p:nvSpPr>
        <p:spPr>
          <a:xfrm>
            <a:off x="4500720" y="3857760"/>
            <a:ext cx="484200" cy="50796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O comp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Obligation de tenir une comptabilité descriptive et régulière des affaires commercial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O d’établir en monnaie nationale les documents (D) compt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Constantia"/>
              </a:rPr>
              <a:t>Livres comptables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(LJ , GL) aux pages cotées et paraphé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Constantia"/>
              </a:rPr>
              <a:t>Etats de synthèse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(image fidèle du patrimoine social, des résultats, de la situation financiè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Chevron 4"/>
          <p:cNvSpPr/>
          <p:nvPr/>
        </p:nvSpPr>
        <p:spPr>
          <a:xfrm rot="5400000">
            <a:off x="4714560" y="3357720"/>
            <a:ext cx="484200" cy="484200"/>
          </a:xfrm>
          <a:custGeom>
            <a:avLst/>
            <a:gdLst>
              <a:gd name="textAreaLeft" fmla="*/ 0 w 484200"/>
              <a:gd name="textAreaRight" fmla="*/ 484560 w 4842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O comp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2. O de tenue chronologique du LJ et GL sans blanc ni ra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3. L’obligation de faire un inventaire des éléments actifs et passifs au moins tous les 12 mois et d’en porter la transcription dans le 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4. L’obligation de présenter les états de synthèse dans les 3 mois qui suivent la clôture de l’exerc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O comp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’obligation de conserver les documents comptables et les pièces justificatifs pendant 10 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Constantia"/>
              </a:rPr>
              <a:t>Art 211 CGI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: même délai aux contribuables (pers physiques ou morales (D comptables-pièc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Constantia"/>
              </a:rPr>
              <a:t>Loi de finances 2017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: pénalité de 50000 dhs par exercice so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Double flèche verticale 3"/>
          <p:cNvSpPr/>
          <p:nvPr/>
        </p:nvSpPr>
        <p:spPr>
          <a:xfrm>
            <a:off x="4500720" y="2857680"/>
            <a:ext cx="484200" cy="571320"/>
          </a:xfrm>
          <a:prstGeom prst="upDownArrow">
            <a:avLst>
              <a:gd name="adj1" fmla="val 50000"/>
              <a:gd name="adj2" fmla="val 4998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Preuve compt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CP = art 19 CC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Admission par Juge de la Comptabilité régulièrement tenue cmm preuv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Entre commerçants à raison des faits de commer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Flèche vers le bas 3"/>
          <p:cNvSpPr/>
          <p:nvPr/>
        </p:nvSpPr>
        <p:spPr>
          <a:xfrm>
            <a:off x="4500720" y="2421000"/>
            <a:ext cx="484200" cy="503280"/>
          </a:xfrm>
          <a:prstGeom prst="downArrow">
            <a:avLst>
              <a:gd name="adj1" fmla="val 50000"/>
              <a:gd name="adj2" fmla="val 4992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us 4"/>
          <p:cNvSpPr/>
          <p:nvPr/>
        </p:nvSpPr>
        <p:spPr>
          <a:xfrm>
            <a:off x="4211640" y="3429000"/>
            <a:ext cx="914400" cy="914400"/>
          </a:xfrm>
          <a:custGeom>
            <a:avLst/>
            <a:gdLst>
              <a:gd name="textAreaLeft" fmla="*/ 120960 w 914400"/>
              <a:gd name="textAreaRight" fmla="*/ 793440 w 914400"/>
              <a:gd name="textAreaTop" fmla="*/ 349560 h 914400"/>
              <a:gd name="textAreaBottom" fmla="*/ 564840 h 914400"/>
            </a:gdLst>
            <a:ahLst/>
            <a:rect l="textAreaLeft" t="textAreaTop" r="textAreaRight" b="textAreaBottom"/>
            <a:pathLst>
              <a:path w="914400" h="914400">
                <a:moveTo>
                  <a:pt x="121204" y="349667"/>
                </a:moveTo>
                <a:lnTo>
                  <a:pt x="349667" y="349667"/>
                </a:lnTo>
                <a:lnTo>
                  <a:pt x="349667" y="121204"/>
                </a:lnTo>
                <a:lnTo>
                  <a:pt x="564733" y="121204"/>
                </a:lnTo>
                <a:lnTo>
                  <a:pt x="564733" y="349667"/>
                </a:lnTo>
                <a:lnTo>
                  <a:pt x="793196" y="349667"/>
                </a:lnTo>
                <a:lnTo>
                  <a:pt x="793196" y="564733"/>
                </a:lnTo>
                <a:lnTo>
                  <a:pt x="564733" y="564733"/>
                </a:lnTo>
                <a:lnTo>
                  <a:pt x="564733" y="793196"/>
                </a:lnTo>
                <a:lnTo>
                  <a:pt x="349667" y="793196"/>
                </a:lnTo>
                <a:lnTo>
                  <a:pt x="349667" y="564733"/>
                </a:lnTo>
                <a:lnTo>
                  <a:pt x="121204" y="564733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Preuve compt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Constantia"/>
              </a:rPr>
              <a:t>Excep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Comptabilité irrégulièrement tenue est un moyen de preuve pour les ti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Constantia"/>
              </a:rPr>
              <a:t>Com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Ils peuvent opposer son contenu au commerça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Flèche angle droit à deux pointes 3"/>
          <p:cNvSpPr/>
          <p:nvPr/>
        </p:nvSpPr>
        <p:spPr>
          <a:xfrm>
            <a:off x="6659640" y="2924280"/>
            <a:ext cx="850680" cy="1285920"/>
          </a:xfrm>
          <a:custGeom>
            <a:avLst/>
            <a:gdLst>
              <a:gd name="textAreaLeft" fmla="*/ 106200 w 850680"/>
              <a:gd name="textAreaRight" fmla="*/ 638280 w 850680"/>
              <a:gd name="textAreaTop" fmla="*/ 966960 h 1285920"/>
              <a:gd name="textAreaBottom" fmla="*/ 1179720 h 1285920"/>
            </a:gdLst>
            <a:ahLst/>
            <a:rect l="textAreaLeft" t="textAreaTop" r="textAreaRight" b="textAreaBottom"/>
            <a:pathLst>
              <a:path w="850900" h="1285875">
                <a:moveTo>
                  <a:pt x="0" y="1073150"/>
                </a:moveTo>
                <a:lnTo>
                  <a:pt x="212725" y="860425"/>
                </a:lnTo>
                <a:lnTo>
                  <a:pt x="212725" y="966788"/>
                </a:lnTo>
                <a:lnTo>
                  <a:pt x="531813" y="966788"/>
                </a:lnTo>
                <a:lnTo>
                  <a:pt x="531813" y="212725"/>
                </a:lnTo>
                <a:lnTo>
                  <a:pt x="425450" y="212725"/>
                </a:lnTo>
                <a:lnTo>
                  <a:pt x="638175" y="0"/>
                </a:lnTo>
                <a:lnTo>
                  <a:pt x="850900" y="212725"/>
                </a:lnTo>
                <a:lnTo>
                  <a:pt x="744538" y="212725"/>
                </a:lnTo>
                <a:lnTo>
                  <a:pt x="744538" y="1179513"/>
                </a:lnTo>
                <a:lnTo>
                  <a:pt x="212725" y="1179513"/>
                </a:lnTo>
                <a:lnTo>
                  <a:pt x="212725" y="1285875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4T23:11:15Z</dcterms:created>
  <dc:creator>SAMSUNG</dc:creator>
  <dc:description/>
  <dc:language>en-US</dc:language>
  <cp:lastModifiedBy>SPIRIT LOGISTICS</cp:lastModifiedBy>
  <dcterms:modified xsi:type="dcterms:W3CDTF">2020-03-20T10:25:50Z</dcterms:modified>
  <cp:revision>38</cp:revision>
  <dc:subject/>
  <dc:title>Diapositive 1</dc:title>
</cp:coreProperties>
</file>